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90C0-566D-4ACE-9ABC-7564B1549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FA0D-93D0-45C0-A5C0-CFCCC362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B31-80B9-4681-AFC7-88BD5B730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3015-4870-457D-8AB8-018059774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02102-2078-4032-B337-1D41A392E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550DA-3B58-4B42-AA73-7EDE08E24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3E96-A719-44D5-83E7-74F46255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94DA-F90E-4F74-AEC1-A081575E9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8A828-7225-45A1-BC50-D4B44FDA7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C8F1-6BFB-4CA3-A213-D215104DA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C566-4151-4350-A464-15568AE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74F7-FDFF-4EBE-B4A9-BB747D0E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B916-0A1B-47E7-B933-B6DE73D2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EE63-D7D8-4AD4-9315-B3F53D96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65C2-F91E-4DDC-BD5B-02A1BABD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7545-7EBF-4C16-AE96-1715E2C59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04D5E-B3E3-4A4D-AC2A-116EF1F1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35F3-9438-4A9F-A5D7-A8816C5F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123E-5F89-485F-8412-D97EDA9DF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C50-BEDF-4BF3-9D7F-B56C02B3E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8934-238F-4F4B-A907-BA88B7A9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F7EC-BCF9-41BC-AE00-C75B2D4F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7B7-6840-4947-AC1F-9D6B542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927F-8512-4EAE-95B0-193F66D72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50C1-8AA1-4C5C-BB9B-517F532D1B0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667D0-115E-4D85-983B-B268E61BB44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篇  总论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71640" y="3068280"/>
            <a:ext cx="73454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Introduction of Medical Parasit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现象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根据共同生活中两种生物之间的营养、居住和利害关系，可将两种生物共同生活方式分为三种类型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共栖 ：指在一起共同生活的两种生物，一方受益，而另一方既不受益也不受害，如 结肠内阿米巴寄生在人体结肠内 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843280" y="4292640"/>
            <a:ext cx="3600360" cy="2427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516720" y="580536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结肠内阿米巴滋养体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互利共生：指共生生物与宿主之间在生理上相互依存，共生双方都受益，如   白蚁及其消化道中的鞭毛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生活 ：共生者中一方受益，另一方受害，如  链状带绦虫寄生在人体小肠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4360" y="3718080"/>
            <a:ext cx="432108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生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与宿主定义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两种生物在一起生活，其中一种生物从中获利并生存；而另一种生物受到损害的现象称寄生生活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获利并生存的生物叫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受损害的一方称宿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84360" y="4365720"/>
            <a:ext cx="4209840" cy="22651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203640" y="6156360"/>
            <a:ext cx="144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68ae"/>
                </a:solidFill>
                <a:latin typeface="Arial"/>
              </a:rPr>
              <a:t>杜氏利什曼原虫无鞭毛体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292720" y="3284640"/>
            <a:ext cx="3024360" cy="26175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364000" y="5950080"/>
            <a:ext cx="28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杜氏利什曼原虫寄生于人体单核巨噬细胞，引起人体损害。寄生虫：杜氏利什曼原虫，宿主：人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020000" y="5516640"/>
            <a:ext cx="12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黑热病患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寄生虫的类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在人体的寄生部位分体外寄生虫（主要为节肢动物）和体内寄生虫（寄生在宿主体内的寄生虫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1116000" y="2924280"/>
            <a:ext cx="3313080" cy="306684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5435640" y="2924280"/>
            <a:ext cx="2565360" cy="302580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1619280" y="6093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外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蚤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76720" y="60674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体内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似蚓蛔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生活的时间分永久性寄生虫（疟原虫、日本血吸虫、链状带绦虫、似蚓蛔线虫、毛首鞭形线虫等）和暂时性寄生虫（硬蜱、恙螨、蚤等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2587680"/>
            <a:ext cx="4103640" cy="32288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5388120" y="2587680"/>
            <a:ext cx="2687400" cy="3240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971640" y="599616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永久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毛首鞭形线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111640" y="5972040"/>
            <a:ext cx="34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暂时性寄生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恙螨幼虫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按寄生虫对宿主的选择分为专性寄生虫（吸虫，大多数线虫）和兼性寄生虫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619280" y="1773360"/>
            <a:ext cx="2362320" cy="396216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116000" y="580536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专性寄生虫（华支睾吸虫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219640" y="580536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兼性寄生虫（棘阿米巴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5148360" y="2276640"/>
            <a:ext cx="1806480" cy="2808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020000" y="2781360"/>
            <a:ext cx="156204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宿主的类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寄生虫生活史不同发育阶段所寄生的宿主及其在流行中的作用，将宿主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终宿主：寄生虫的成虫或有性阶段寄生的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中间宿主：寄生虫的幼虫或无性阶段寄生的宿主，若有一个以上的中间宿主，依发育的先后顺序分别命名为第一中间宿主和第二中间宿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保虫宿主：有些寄生虫除了寄生在人体外，还可寄生在某些脊椎动物体內，完成与人体内相同的生活阶段，这种感染动物是此寄生虫的重要传染源，并在流行病学中起贮存和保虫作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转续宿主：某些蠕虫幼虫侵入非正常宿主，虽能存活，但不能发育为成虫，长期保持幼虫阶段，当此幼虫有机会进入正常宿主，才能继续发育为成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11280" y="5805360"/>
            <a:ext cx="82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终宿主人；第一中间宿主蜷螺；第二中间宿主溪蟹、蝲蛄；保虫宿主犬、猫；转续宿主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413080" y="2997360"/>
            <a:ext cx="431964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生活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生活史定义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完成一代经历的生长、发育和繁殖及宿主转换的过程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完成生活史的两个基本条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适宜的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外界环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284720" y="3789360"/>
            <a:ext cx="3889440" cy="300672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2484360" y="5877000"/>
            <a:ext cx="17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肥胖带绦虫生活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生活史类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根据是否需要中间宿主将生活史划分为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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需要中间宿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间接型生活史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3564000" y="4076640"/>
            <a:ext cx="1846080" cy="234972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5435640" y="59500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卫氏并殖吸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4140360" y="1700280"/>
            <a:ext cx="316836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95280" y="836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学定义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58560" y="2421000"/>
            <a:ext cx="6778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医学寄生虫学是研究感染人的寄生虫和寄生虫病的科学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医学寄生虫內容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寄生虫病的病原体和传播媒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病原体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629000" cy="28810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3564000" y="2781360"/>
            <a:ext cx="1628640" cy="288108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156360" y="2781360"/>
            <a:ext cx="1638360" cy="2881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826920" y="5734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原生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48000" y="5734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医学蠕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51640" y="573408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少数医学节肢动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395280" y="333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b5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传播媒介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547640" y="981000"/>
            <a:ext cx="2953080" cy="23716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788000" y="981000"/>
            <a:ext cx="2592360" cy="23688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619280" y="3933720"/>
            <a:ext cx="5761080" cy="23986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411280" y="34290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蛛形纲医学节肢动物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如蜱等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2720" y="6284880"/>
            <a:ext cx="46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昆虫纲医学节肢动物（如蝇等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ecff"/>
                </a:solidFill>
                <a:latin typeface="Arial"/>
              </a:rPr>
              <a:t>寄生虫对人类的危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重影响人体健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病原体引起寄生虫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作为传播媒介传播传染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造成无法估量的经济损失，严重影响社会和经济的发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联合国开发计划署、世界银行和世界卫生组织制定的热带病特别规划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(TDR)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要求在全世界范围内重点防治的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10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热带病中有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7</a:t>
            </a:r>
            <a:r>
              <a:rPr b="0" lang="zh-CN" sz="3600" spc="-1" strike="noStrike">
                <a:solidFill>
                  <a:srgbClr val="ccecff"/>
                </a:solidFill>
                <a:latin typeface="Arial"/>
              </a:rPr>
              <a:t>种为寄生虫病。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000" y="2637000"/>
            <a:ext cx="410364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疟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血吸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淋巴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盘尾丝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利什曼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非洲锥虫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恰加斯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047680" cy="27050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362560" y="2997360"/>
            <a:ext cx="1654200" cy="26636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162920" y="2997360"/>
            <a:ext cx="1555560" cy="27018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3274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本血吸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362560" y="57754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淋巴丝虫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946920" y="57754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内脏利什曼病患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近年来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WHO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用伤残调整寿命年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(DALYs)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表示疾病负担的严重程度，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DALYs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越大表示该病对健康损失及生存质量影响越大。</a:t>
            </a: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499840" y="155664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常见寄生虫的全世界疾病负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468360" y="2216160"/>
          <a:ext cx="8229600" cy="4524480"/>
        </p:xfrm>
        <a:graphic>
          <a:graphicData uri="http://schemas.openxmlformats.org/drawingml/2006/table">
            <a:tbl>
              <a:tblPr/>
              <a:tblGrid>
                <a:gridCol w="4068720"/>
                <a:gridCol w="4160880"/>
              </a:tblGrid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寄生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DALYs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中疾病负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疟疾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4228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血吸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76.0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淋巴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564.4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盘尾丝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98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利什曼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235.7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非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59.8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美洲锥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鞭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64.9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蛔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18.1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钩虫病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182.5</a:t>
                      </a: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Calibri"/>
                          <a:ea typeface="Times New Roman"/>
                        </a:rPr>
                        <a:t>万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ecff"/>
                </a:solidFill>
                <a:latin typeface="Arial"/>
              </a:rPr>
              <a:t>在我国控制和消灭寄生虫病的任务仍十分艰巨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危害严重的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疟疾、血吸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疫情仍没有得到完全控制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有些食源性寄生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肝吸虫病、旋毛虫病、广州管圆线虫病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断増加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随着艾滋病在我国的迅速蔓延，机会性寄生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刚地弓形虫、隐孢子虫、粪类圆线虫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的感染率有增长趋势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468360" y="1692360"/>
            <a:ext cx="8424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ecff"/>
                </a:solidFill>
                <a:latin typeface="Arial"/>
              </a:rPr>
              <a:t>第一章  寄生现象与寄生虫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71640" y="3068640"/>
            <a:ext cx="73454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sitism, Parasite and Ho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35280" y="5300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高兴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0T09:35:20Z</dcterms:created>
  <dc:creator>gy</dc:creator>
  <dc:description/>
  <dc:language>en-US</dc:language>
  <cp:lastModifiedBy>hzg</cp:lastModifiedBy>
  <dcterms:modified xsi:type="dcterms:W3CDTF">2015-10-05T08:41:02Z</dcterms:modified>
  <cp:revision>123</cp:revision>
  <dc:subject/>
  <dc:title>医学寄生虫学总论</dc:title>
</cp:coreProperties>
</file>